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EC9-31AA-44E3-8679-06508C37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4B6-4DF9-40B3-A4FB-384A7D95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BFB06-2E19-4BD7-BEA6-ECE348B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334A4-60EB-4C99-A08E-6B1AC391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3E5A9-05F6-4581-A83E-6E51CC44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45544-39D8-4A52-B207-F6106DFB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80B15-F0E9-42AE-BD89-B0B524F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C1F53-751A-4541-98E2-87F88908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EA16E-155A-48E7-8497-8AB55D0A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4482B-5249-42DC-9B02-DD877751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A11E7-D21F-4FCB-9D42-4427D003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C611D-4D48-4FE3-90D6-2D323FE9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D1F-8CB9-4462-B6AD-2DA10BB5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D5866-15E3-44C6-B6F7-0362E781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0EBC6-9CBB-4DE4-89E8-49237068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AE893-2885-4931-B4B4-C641630C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B08C6-7870-43A4-9316-0F976165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5B408-0850-49E8-9F40-AF2F0E14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2DF25-D5DB-43FD-B6EC-4567DCA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FED4C-D5D1-4707-9F37-AC09B053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A563C-A465-49B7-9B7E-4725A8C6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B0A37-D3FE-403B-B185-556F1676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5C30D-D6FE-4A49-8C5B-B65EC720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8A2-4B3B-47AF-8475-28480A29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5137D-19EF-4907-AC5C-55874739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B13D1-CD60-49B8-92A7-332AC9B0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0A2E9-7B32-4D37-B390-9FD7D5A2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92413-D7E1-4EB0-9947-94D57379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D2F1D-E8CA-4332-998E-343DE147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B274B-016B-4850-94F6-2FE4ACA7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A0F42-3484-4807-8666-A66A70B5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47DC0-B0A3-4FDB-A22D-EEF1B904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51536-A5C8-449B-8FD6-5B3501FB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06191-E9B5-4AE7-842D-46DA3596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4653-811A-459C-B5F3-8050E55F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91DF0-3F56-4E3F-BCBF-B14750D9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48890-547A-4290-A329-8EC3F324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157D9-D52D-411A-8D3E-F9B71020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459E3-6367-4DAB-9CFC-4F6220FE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0A9A7-6F70-4E0C-BA0C-338D2D75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46C92-DE2C-44A6-8BF8-63EFE6EB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58145-1939-4F22-99B8-4B0A39E5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F4FC7-3985-4303-9554-4340D8FD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321D7-B99B-48CF-AA95-DC2D7D4C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40B79-4A14-43AD-972C-1CA8A3B0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D9DF-1CA9-4CD1-B437-1ABF07E1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DAC2A-071F-48F5-9C89-54CC3B16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7A2F2-1FA7-415E-B3EC-801C1769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F4111-5822-4FD2-BEAC-8F93A8CC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F090A-F120-4E75-AAF9-753311FE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23E93-0944-4F2A-B57A-64EC9355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4D7D5-27BF-45F3-92D1-691BFF08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5C740-CBFF-454D-BBD4-D43F1C68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3E9A4-E0FC-4C92-915E-A4E4B6E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848CD-E8E2-4CE9-A7A4-C8E3769D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216C6-DEB2-4100-9C23-DEB91BD9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EFCD-9D2B-456A-8A9C-0A3F40FA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C7CEE-DDB4-4F5B-AC9E-258D66A5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2A625-AA33-4BB5-B46D-5D5F9394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09A01-6F05-46A7-AFF6-0EB0ECF6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D7AFB-E8BF-4BCA-91F4-F4470CFF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6528B-2F01-4E2E-9FE7-79426D9C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FB3EE-F8B4-464D-94B2-D025A39A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60C0D-46D2-49F1-8F93-31FAA6F3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7ACF0-BF48-47B1-9927-4D86048D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A9356-DC82-4F72-9044-7D7F3C70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A71B9-871B-4A4A-A9F0-CA68EDA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9454-8214-4AEA-8A19-C37CD012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21EF2-A250-459D-9C18-EA510844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BE4BD-59B5-4654-8ECD-A93B0FA1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454DE-B519-4023-B1E1-822CEB48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C1E1A-218E-4E5E-BC9D-9118DE03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BA0CA-6227-458D-BBED-7FFD2286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5ED30-1955-4C82-9A29-D593C9CE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4D3BA-296E-49CC-BA78-77B740C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B2A0C-BA1E-45F0-B550-5D141BB6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2109D-2779-4D39-B4D8-1D3A8CED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75546-1FD2-42E4-B72C-ACE4F3E0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8019-8D15-4BEC-A252-8E61C3EF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EC73B-5369-4540-9679-8FF9E8B0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27E68-75E5-46DA-BD1C-DD3A855E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C98876-5A1F-4E27-B79B-359B7EA1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BB2DC-5CB4-4762-BB33-F420C1A5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336B2-3D00-46D4-89D1-0A895D39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6A610-C359-4005-8D22-98E46E62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8BE08-18C3-4D59-A8EA-BF979161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0B576-DFC8-471A-A3BA-A2589A1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AFB10-78EB-490F-BBE5-A00B6AE9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E749B-6DBC-43AA-8384-0C374496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F2FC-4808-43F0-B21A-3C0D8425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B5653-FEF2-4197-8D1F-5D09AEB6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75FE4-6BF9-44A9-A3D2-78469AAB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2B088-52CB-4E69-9B43-26BE5A3F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DCEAC-3986-4BE7-B512-143E5B1B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4E6E4-4FD1-4127-8A0D-74CC2BB0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14048-C5EA-47CB-8036-B1437F92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267A6-E6E9-4446-9D6D-FC96F15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CC67A-B7AC-466B-842A-6F2ECE23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CFFCA-0ECA-4696-AF60-4D4ADC94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31357-8613-4429-A0CA-3E08E8D6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9138-EFC0-48C1-B792-A8795C8B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D10FE-05EB-4844-A1B7-B4D469B0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E9473-3022-46D3-B92D-93E70B3B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2C976-3B5E-4F45-8044-7ACA3245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07D44-D692-43EF-8151-5562C5DE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FAEC2-6543-44B7-BC81-EFD58C16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8DDE9-1BB7-463B-B889-9E450487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0403A-4D80-4065-B40F-6D7282C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BD488-4FDF-4130-970D-9D863CD8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4EB90-55CA-4F76-8805-1D520FFB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9992F-5B03-4C6B-BDAA-AE180078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EB2-4642-4BAE-BB53-C8A11FCE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0A0C-1536-48CB-8F78-9FAFCD9F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839FE-B03D-469D-B643-C2153AA7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BEAB3-D0A6-4BFD-BB32-CABF8CDA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915D8-3A23-4F5C-ACF8-E0EF7490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CC0CB-BF71-4851-8C65-416C00FA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546E8-C90D-4A47-AF6D-BD36CE67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30FCA-26BF-4EEB-9F02-97EF2868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9D382-B10C-4EEF-8C31-420C78A9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2F453-89D9-4594-B27F-9A4459F9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ECF97-430C-4CA6-A081-38ABB727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60BBD-F16D-4F8B-BCAE-68442AF1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EE01-0F8C-49F1-94FB-78BDD69A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9A9C8-DEA2-41C0-AF9C-30024181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BAC9E-49F1-46D4-9C75-48C98388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D62F16-134F-498D-97A3-7E955F31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D342E-7E19-49E0-B11F-922426C2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8FA66-7FD5-42F5-9CA4-EDD1042B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ED9BC-41AD-4690-918A-74DAD0B9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CDAF9-14FD-4850-B812-090EE089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F40759-8EEF-47A1-A1C0-26D53612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E2F57-8ED1-4942-8BA0-C30E812D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579577-BBA0-49C9-8943-8042AB91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E026-3EFE-4410-A386-4B21C515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CC82A-96BD-4228-825C-E9F22C39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17068C-78E8-402E-9CA1-CD00F426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F8269-B8E8-4190-89D1-842134D3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40601-85F3-4D42-8E5A-ADD166C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CF060-4E07-4153-A6DD-58089552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83D16-6CDB-430B-B6AD-E220096D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81EC7-61CC-41D6-BFC6-AEC4970F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1A988-7DDB-4B2B-B071-8DC97797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2075CD-DF2F-4F8B-B67E-0A6A44E8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F05B9-7ED5-4D37-A290-C4F7F6A2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7D35-759B-4167-BEF4-43349355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EFF9C9-BE99-4DD9-AD20-34CF2A54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1AC251-3276-41E3-9266-BA8007F4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4FFD09-35F3-40D2-8B6E-0E6AE989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6388F-C4BB-4919-BB37-DC463E06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3C19E8-C58B-4ACE-9797-9F350B4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24178-6AFC-4383-95D2-2ABBD6FE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3CFE2-9184-48EF-A47B-1A782CE4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818C3-3F1C-4411-963A-0AC1DC28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23367-4227-4B46-9F96-D1E97B2C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6AF02-D46F-4147-BE56-CB1E27A6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B85E-4277-4108-9949-41B9F5DC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551F5-0B6D-440F-AF7B-EF064F2D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806761-328F-43AC-84D4-885310ED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C0B332-30B5-4975-A79B-2BEB07A1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7D63CA-87FE-4438-A3AE-75E9F024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96525-4A59-4CC8-A13A-49003D1E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85FAF7-4CE8-4321-B5DF-1085232E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F090B-A0CB-497A-86C2-6AA825A3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492DEF-37A2-4E23-BCF3-ADF26A9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0A84CA-2CFB-44F2-9EAB-C4C1075F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3FCEE9-6E3D-4D81-85A3-80549803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1836-6613-43A7-9EDC-5EA5BC3E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2D35F-CC1E-4DC5-B3C0-55C7E6E8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1DCE42-91C2-4E0E-9D83-D49001C6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C56A8F-6934-4D54-BEF6-54BCFC7B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937A-A9EC-45A0-83A8-CD48972A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1E82-5601-4FE3-9077-1784C9D1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0498-0B45-406D-802E-B8625EF4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CCA6-B340-4631-978E-07CC0016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294-626D-49D7-B393-7860C296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BA2A-ACAF-4354-920D-DE5FD0BC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D8664-8B73-45C7-9FFB-68F0EA6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301C-8D22-46EB-99FF-6CE96B42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FD8D-3D90-44F6-937F-3A7B0B34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F119-358F-47FA-AFF4-877B2230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CBFBC-C9BD-40E2-B151-17E8E6AF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FBF2-23FC-4CEC-8925-73BEC8AF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9B2D-8651-4C8D-B811-D0F484FC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AA2D-7C80-4071-9A7B-F6842746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33850-EA5D-4941-88EB-51943B88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E13-EF0C-445F-B835-7DE9C5F4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D811-4CF6-4957-A73C-B6F7C83C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23E0D-9F1D-4B4C-B978-9C574A73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8468-7492-4DCA-947E-1603CEB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29E6-89C0-4F39-A227-E53CBF3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0C12-46B0-4471-8186-851AD0D7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6347-CBD7-468D-885D-FA2A601D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F995-F251-44A1-8A16-2E254BC5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3BBD-2C47-4E55-BEA9-2ED59264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A9DF-2F94-48DA-91FA-E2852136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B18A-EED6-4D3F-A98B-6FBD70BF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162-E8D2-44F4-83EB-9807539F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9A8C-9C34-4747-B40A-CF5271B2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4DF2-F8D9-459B-AA71-04574E69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B9ED2-63A2-4BD0-ACB5-E0EF6822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D7B2-81AD-40A4-81E7-63FCD7B8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B8EB7-B0C8-4BDA-9C4D-CB74935D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4A20E-4CBF-4A7C-AD7D-E53D9E0C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BFA8-535F-4599-A2BA-0625B458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57220-C3DD-4D4D-92C3-6524AEE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84C33-81C5-45CA-B896-8204FB8A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193CD-328E-4AA3-83DC-9704C11F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E94-F532-4256-A76C-644BE0D7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09B09-8279-4D18-9BB1-C217BD83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B03E7-D40B-4392-85AD-A5E45E6F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4EA8D-9CCC-4CEA-B237-E1E1627B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6DEE-5EE1-495E-A0F5-8EB9F5C6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8E5C7-3529-4D78-A897-C964D8F4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11F9B-9E6E-440B-B707-D4716885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709FC-66B9-4BFB-BC51-64BEB6A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7209D-8E38-4369-90A4-DEFDB69F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7925-8A6B-4DC8-8445-1FE57B1E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5B00D-6343-493C-8C3C-363A374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13C-42E0-4497-B78B-BF58197C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D436E-8B8B-4ECE-A26B-43EA3E3A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AAA4B-253C-456E-B533-EC4D48C9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60AC5-A9DE-49EB-B7D6-D892EA05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80E32-453A-4622-A5FE-93B72C9E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713E6-38BA-42DE-9F4E-1C2BD0BE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85EC4-AB3D-4CDE-994B-8C9C9A1D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0563-2F88-482D-963E-5CCF3AD8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A5FF7-B4D1-4451-8AEB-4341C050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70F7B-B924-495C-8C52-E9E54B44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266C5-951E-46BD-A9F9-6C11D92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E8E-3F39-46E1-9D02-67E057F3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08716-5F70-45AF-A33E-ABBA201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A423B-6423-4825-B52C-2263EEE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5C9D8-8312-4A1D-BEBA-21F3FD10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99A31-6AA3-4ADC-AE46-0CF4DE41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2688E-20A2-43B8-A8B6-B8F1F0D1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F2F2-4731-47C9-8C9A-E30ECD7D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F86F4-E9A0-40C5-977B-CE771C38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1D021-E714-475A-BBAB-F33D5D60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9A000-AEBA-47A5-B114-215D5264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1DADB-EDC3-4B9A-9DD5-774FB573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EF7-7D82-4DCC-99B7-E4E7435B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CEDC1-2890-4F60-8050-5D2982D1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BFECC-A074-47F8-B9D1-9C7F4BE9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C5EAD-F1D7-42F7-934D-DCFA1FB0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C3A0C-34CE-4D7C-8C23-6A18013F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4ADB1-E672-406C-88CC-B34E4A6D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6FF85-753E-4EC4-B68A-11FE3509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F140A-D341-4A8D-8071-BD4B7722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3DBC3-C1DD-4029-9297-7406D24D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0B6B9-F929-4B41-9E74-811906EB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9657D-714D-4D87-9627-32CCC8C3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21BD-3942-4BFB-83DE-D692F212A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2C0F-2851-4C79-9091-05CB4D6919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6F74-83F4-4DFA-BF12-478A5D7B97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DE07-9D8F-4FD1-B59E-F19FB14361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795A-E8BB-43C2-BDAF-1593C4644E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6C5D-DF75-4C65-919B-2A225CBFA0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4280-EB34-4FD5-8FE1-54C642A3B4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FD34-50C8-4972-A355-854E73B4AF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48D7-5D7B-41D3-B144-EE06F0CF92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FDA1-F276-4A07-88D2-46B0F951EC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F3DC-EBBB-46CB-81B8-CF629B1B11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4C3E-EBA4-4235-924F-1DD299FD5F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588F-CD7F-4DF1-AC76-02042C4531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FEB0-2337-43AE-A975-84E2EB7798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299C-8E7C-4C5D-B667-DB135EA1FD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CCA3-72AE-46FB-B1CE-3208188E65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D174-0830-4086-99C2-BA24E89805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417D-5889-4124-818A-A1B20F9F0A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A6F7-3D9E-4376-8A25-56C9526B41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7E59-30D3-4CA8-8AC8-0C10F3C96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DAD3-BC8E-4F05-9119-7AF317A6C7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C03-B272-45B0-BE5A-EC484575B3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370E-244B-421E-8F21-34215CC26A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CFD2-B50E-4074-9430-9209F060E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E2FE-8274-40E5-8D97-E01C9984B2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8CC1-1455-4200-A6DB-46597B7D9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35C5-023D-4761-9C7A-30BCAC1F68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66C6-229B-4FF6-B648-61467E441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56CB-DB49-401B-90A9-8047FCC678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2FB7-F6D6-4457-8FD5-8D8221A66B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6B28-667D-4FB3-8C87-8A635466D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0B17-ABB6-4F6E-9C87-E14C661D96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FE88-A97A-4A02-B142-2EA03AF691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35B5-4E80-4B8E-AB8F-50185EF279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45BE-CB02-4112-8693-F738F418A3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0A60-8E09-4286-AF78-BFDD3BC9A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C8A1-7746-4EAD-B39A-1180FA46FF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53D4-F94A-4445-B8A0-C7E6FC4176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29B1-38B4-4615-8627-2384B4DB87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E197-26EC-47D2-98B5-40251667C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104920" y="3057480"/>
            <a:ext cx="49341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438120" y="957240"/>
            <a:ext cx="8267760" cy="494352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1139760" y="1820880"/>
            <a:ext cx="2786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1214280" y="2693880"/>
            <a:ext cx="7151760" cy="381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1071720" y="3571920"/>
            <a:ext cx="2500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1143000" y="4429080"/>
            <a:ext cx="4950000" cy="406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6"/>
          <p:cNvSpPr/>
          <p:nvPr/>
        </p:nvSpPr>
        <p:spPr>
          <a:xfrm>
            <a:off x="1214280" y="5357880"/>
            <a:ext cx="5643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47840" y="1066680"/>
            <a:ext cx="8248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380880" y="1290600"/>
            <a:ext cx="8382240" cy="427680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928800" y="414324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4643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928800" y="507204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8286480" cy="561024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1071720" y="8571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1071720" y="1785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1071720" y="2214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5"/>
          <p:cNvSpPr/>
          <p:nvPr/>
        </p:nvSpPr>
        <p:spPr>
          <a:xfrm>
            <a:off x="1071720" y="3286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"/>
          <p:cNvSpPr/>
          <p:nvPr/>
        </p:nvSpPr>
        <p:spPr>
          <a:xfrm>
            <a:off x="1071720" y="414324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7"/>
          <p:cNvSpPr/>
          <p:nvPr/>
        </p:nvSpPr>
        <p:spPr>
          <a:xfrm>
            <a:off x="1071720" y="51436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"/>
          <p:cNvSpPr/>
          <p:nvPr/>
        </p:nvSpPr>
        <p:spPr>
          <a:xfrm>
            <a:off x="1071720" y="5643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472464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3857760" y="3500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2214720" y="4429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334360" cy="2943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428760" y="3857760"/>
            <a:ext cx="8238960" cy="2371680"/>
          </a:xfrm>
          <a:prstGeom prst="rect">
            <a:avLst/>
          </a:prstGeom>
          <a:ln w="0">
            <a:noFill/>
          </a:ln>
        </p:spPr>
      </p:pic>
      <p:sp>
        <p:nvSpPr>
          <p:cNvPr id="1041" name="矩形 3"/>
          <p:cNvSpPr/>
          <p:nvPr/>
        </p:nvSpPr>
        <p:spPr>
          <a:xfrm>
            <a:off x="1143000" y="14288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1857240" y="32860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7365960" y="4822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514440" y="971640"/>
            <a:ext cx="81151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143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71600" y="1281240"/>
            <a:ext cx="82008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7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